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F93-CECF-45C8-BE28-696B1505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358-3CD8-4FAF-B8CD-3608B746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0A7-47C4-4CAA-A67E-0458B479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551-6C24-45E8-9306-CA2B5788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3FF-9E2B-4815-B9F4-8E351486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9B5-0235-4EF0-834E-ECD7035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394-2641-4D1C-9587-1982092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1BE-DAF4-49BB-A77B-6A3F650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7AA-419B-417B-AFCA-DE18B3D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229-8CDB-4DD4-824E-203B55C0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90B-3F70-4D38-85CC-BB4C2EFA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6FD-03AF-4FFF-AA74-9ED2F852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3A61-61FF-467E-9AB4-30E473890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380880" y="9907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38088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590920" y="4343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724280" y="4343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7010280" y="43434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2514600" y="61722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609480" y="609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ll it float in water?  Determine if the following shapes will float in water by calculating the density for each item. D = M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-Point Star 10"/>
          <p:cNvSpPr/>
          <p:nvPr/>
        </p:nvSpPr>
        <p:spPr>
          <a:xfrm>
            <a:off x="533520" y="2209680"/>
            <a:ext cx="1447560" cy="1447920"/>
          </a:xfrm>
          <a:prstGeom prst="pie">
            <a:avLst/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sosceles Triangle 11"/>
          <p:cNvSpPr/>
          <p:nvPr/>
        </p:nvSpPr>
        <p:spPr>
          <a:xfrm>
            <a:off x="2743200" y="2209680"/>
            <a:ext cx="1447920" cy="1447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Magnetic Disk 12"/>
          <p:cNvSpPr/>
          <p:nvPr/>
        </p:nvSpPr>
        <p:spPr>
          <a:xfrm>
            <a:off x="4952880" y="2209680"/>
            <a:ext cx="1524240" cy="1447920"/>
          </a:xfrm>
          <a:prstGeom prst="flowChartMagneticDisk">
            <a:avLst/>
          </a:pr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13"/>
          <p:cNvSpPr/>
          <p:nvPr/>
        </p:nvSpPr>
        <p:spPr>
          <a:xfrm>
            <a:off x="7238880" y="2133720"/>
            <a:ext cx="1219320" cy="15238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228600" y="4343400"/>
            <a:ext cx="198108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7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2362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0.0 g/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648320" y="4343400"/>
            <a:ext cx="213336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25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.2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6934320" y="4343400"/>
            <a:ext cx="205740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ass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Volume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2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Densit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.05 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914400" y="5943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the density is less than 1.0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en it will float. 1 g/mL = 1 g/cm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14" descr=""/>
          <p:cNvPicPr/>
          <p:nvPr/>
        </p:nvPicPr>
        <p:blipFill>
          <a:blip r:embed="rId1"/>
          <a:stretch/>
        </p:blipFill>
        <p:spPr>
          <a:xfrm>
            <a:off x="-55440" y="1773360"/>
            <a:ext cx="2463840" cy="182376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5" descr=""/>
          <p:cNvPicPr/>
          <p:nvPr/>
        </p:nvPicPr>
        <p:blipFill>
          <a:blip r:embed="rId2"/>
          <a:stretch/>
        </p:blipFill>
        <p:spPr>
          <a:xfrm>
            <a:off x="6572160" y="1700280"/>
            <a:ext cx="2468520" cy="18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32:36Z</dcterms:created>
  <dc:creator>PritchaJ</dc:creator>
  <dc:description/>
  <dc:language>en-US</dc:language>
  <cp:lastModifiedBy>PritchaJ</cp:lastModifiedBy>
  <dcterms:modified xsi:type="dcterms:W3CDTF">2011-05-24T15:32:44Z</dcterms:modified>
  <cp:revision>1</cp:revision>
  <dc:subject/>
  <dc:title>Slide 1</dc:title>
</cp:coreProperties>
</file>